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2B7-BB04-44C0-8BF9-65FC70C4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AFF-000F-4D9D-94C2-F0E9CE84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336-5EF8-4730-AF4E-A647DF41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DEF-2532-431C-934A-81359B6D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7A43-5DE9-46A8-9147-13575833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3DF8-768B-4DD7-B1D1-4BDF9341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92A8-CBDD-44D5-8329-FDC932F4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3F79-B83A-41F1-8C79-09DBCDD3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B504-F5F4-4FD1-9991-0F1E6817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0D65-A7D7-40AA-8F88-3AA315AB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98AF-B237-4449-9ADF-3946BB2A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760-CB7F-427F-B042-568EBDA2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8A13-2A61-42E1-959A-4982797E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1B43-D223-4C75-A06B-885DDB70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EF61-AD45-4EEB-AF3F-592BF376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DFC7-2ED9-4D38-BD68-FCBD45EC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9D77-73E8-44A5-948F-10D6EC23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F39-1ED9-4B75-B934-1C1171AC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A14-4F77-4906-821A-852398AD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7BD-9E6D-45EF-AE86-DF9305E2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477-553D-4CBA-A908-C7F7A6F0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97A-1DD3-4EB7-8E69-0508C088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6C5-7929-467E-AC5D-E4D1FFAD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9EC-D123-411C-A3FC-5D9BBB87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615C-2432-4A1D-BD1E-42B2B566FC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6B9C-BAFE-49A0-903D-3CBE76DD99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2 класс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Учитель: Мастранская Ольг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Николаев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шаблон 1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023840" y="3156120"/>
            <a:ext cx="736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42960" y="3143160"/>
            <a:ext cx="83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2 класс. Учитель: Гейвандиян Светлана Сергеевна.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47640" y="1125360"/>
            <a:ext cx="6553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Слова, которые отвечаю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               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на вопро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кто? 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343240" y="4019400"/>
            <a:ext cx="49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БОУ СОШ № 20 с. Новомихайловск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http://img1.liveinternet.ru/images/attach/c/3/76/879/76879623_4451664_2a3db3feb1ba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1582560" y="4287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Verdana"/>
              </a:rPr>
              <a:t>П р е в р а щ е н и 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84360" y="155736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мените одну букву в словах так, чтобы они отвечали на вопрос </a:t>
            </a:r>
            <a:r>
              <a:rPr b="1" i="1" lang="ru-RU" sz="3200" spc="-1" strike="noStrike">
                <a:solidFill>
                  <a:srgbClr val="ff0066"/>
                </a:solidFill>
                <a:latin typeface="Verdana"/>
              </a:rPr>
              <a:t>кто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042920" y="1197000"/>
            <a:ext cx="266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48829"/>
                </a:solidFill>
                <a:latin typeface="Verdana"/>
              </a:rPr>
              <a:t>что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Verdana"/>
              </a:rPr>
              <a:t>ко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Verdana"/>
              </a:rPr>
              <a:t>капл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Verdana"/>
              </a:rPr>
              <a:t>д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Verdana"/>
              </a:rPr>
              <a:t>ма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Verdana"/>
              </a:rPr>
              <a:t>д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572080" y="1214280"/>
            <a:ext cx="230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48829"/>
                </a:solidFill>
                <a:latin typeface="Verdana"/>
              </a:rPr>
              <a:t>кто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Verdana"/>
              </a:rPr>
              <a:t>ко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Verdana"/>
              </a:rPr>
              <a:t>цапл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Verdana"/>
              </a:rPr>
              <a:t>з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Verdana"/>
              </a:rPr>
              <a:t>ра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Verdana"/>
              </a:rPr>
              <a:t>с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2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4" descr="обои White clouds on clear, vector sky фото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162" name="Text Box 5"/>
          <p:cNvSpPr/>
          <p:nvPr/>
        </p:nvSpPr>
        <p:spPr>
          <a:xfrm>
            <a:off x="324000" y="847800"/>
            <a:ext cx="736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Если было интересно, легко на уроке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во всем разобрались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4716360" y="1413000"/>
            <a:ext cx="935280" cy="863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525960" y="3170160"/>
            <a:ext cx="67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ли иногда были трудности, сомнени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совсем понравилась работа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6084720" y="3645000"/>
            <a:ext cx="935280" cy="863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051920" y="516744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ли не разобрались в теме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ыло не очень интерес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5867280" y="5516640"/>
            <a:ext cx="935280" cy="863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шаблон 4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нтн"/>
          <p:cNvPicPr/>
          <p:nvPr/>
        </p:nvPicPr>
        <p:blipFill>
          <a:blip r:embed="rId2"/>
          <a:stretch/>
        </p:blipFill>
        <p:spPr>
          <a:xfrm>
            <a:off x="1214280" y="1071720"/>
            <a:ext cx="5616720" cy="394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ж"/>
          <p:cNvPicPr/>
          <p:nvPr/>
        </p:nvPicPr>
        <p:blipFill>
          <a:blip r:embed="rId3"/>
          <a:stretch/>
        </p:blipFill>
        <p:spPr>
          <a:xfrm>
            <a:off x="1500120" y="714240"/>
            <a:ext cx="4410000" cy="5478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club.osinka.ru/files/gloverall_classic_duffle_coat_for_men_145.jpg"/>
          <p:cNvPicPr/>
          <p:nvPr/>
        </p:nvPicPr>
        <p:blipFill>
          <a:blip r:embed="rId4"/>
          <a:srcRect l="20003" t="0" r="21250" b="10001"/>
          <a:stretch/>
        </p:blipFill>
        <p:spPr>
          <a:xfrm>
            <a:off x="1857240" y="571680"/>
            <a:ext cx="3870360" cy="592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http://www.freakingnews.com/images/app_images/watermelon-1.jpg"/>
          <p:cNvPicPr/>
          <p:nvPr/>
        </p:nvPicPr>
        <p:blipFill>
          <a:blip r:embed="rId5"/>
          <a:srcRect l="7008" t="3555" r="5000" b="6552"/>
          <a:stretch/>
        </p:blipFill>
        <p:spPr>
          <a:xfrm>
            <a:off x="785880" y="642960"/>
            <a:ext cx="6286320" cy="5429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http://img0.liveinternet.ru/images/attach/c/4/78/534/78534590_large_korova4.jpg"/>
          <p:cNvPicPr/>
          <p:nvPr/>
        </p:nvPicPr>
        <p:blipFill>
          <a:blip r:embed="rId6"/>
          <a:stretch/>
        </p:blipFill>
        <p:spPr>
          <a:xfrm>
            <a:off x="857160" y="714240"/>
            <a:ext cx="7054920" cy="564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http://www.teleport2001.ru/files/teleport/styles/article_page/public/images/2013/08/28/malina.jpg?itok=MNrTJfUG"/>
          <p:cNvPicPr/>
          <p:nvPr/>
        </p:nvPicPr>
        <p:blipFill>
          <a:blip r:embed="rId7"/>
          <a:stretch/>
        </p:blipFill>
        <p:spPr>
          <a:xfrm>
            <a:off x="1714680" y="642960"/>
            <a:ext cx="5786280" cy="57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шаблон 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900000" y="1860480"/>
            <a:ext cx="82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Verdana"/>
              </a:rPr>
              <a:t>Проверьте себ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ьто, 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бу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 с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ака,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в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оч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, м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ина, к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шаблон 4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28760" y="28584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             </a:t>
            </a: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Красная дев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             </a:t>
            </a: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Росла в темниц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             </a:t>
            </a: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Люди в руки брал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             </a:t>
            </a: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Косы обрывали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                          </a:t>
            </a: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(морков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00720" y="2060640"/>
            <a:ext cx="454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Verdana"/>
              </a:rPr>
              <a:t>Никого не огорчае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Verdana"/>
              </a:rPr>
              <a:t>А всех плакать заставля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Verdana"/>
              </a:rPr>
              <a:t>                    </a:t>
            </a:r>
            <a:r>
              <a:rPr b="1" lang="ru-RU" sz="1800" spc="-1" strike="noStrike">
                <a:solidFill>
                  <a:srgbClr val="cc6600"/>
                </a:solidFill>
                <a:latin typeface="Verdana"/>
              </a:rPr>
              <a:t>(лу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14200" y="214308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Свежий и солё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Он всегда зелёны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(огурец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276720" y="3933720"/>
            <a:ext cx="686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Что копали из земли, жарили, варил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Что в золе мы испекли, ели да хвалил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                                         </a:t>
            </a: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(картофел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10" descr="бю  т"/>
          <p:cNvPicPr/>
          <p:nvPr/>
        </p:nvPicPr>
        <p:blipFill>
          <a:blip r:embed="rId2"/>
          <a:stretch/>
        </p:blipFill>
        <p:spPr>
          <a:xfrm>
            <a:off x="5148360" y="4941720"/>
            <a:ext cx="1523880" cy="1670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1301400" y="4956120"/>
            <a:ext cx="282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родилась я на славу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олова бела, кудря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то любит щ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ня в них ищ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капуст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2" descr="зш9"/>
          <p:cNvPicPr/>
          <p:nvPr/>
        </p:nvPicPr>
        <p:blipFill>
          <a:blip r:embed="rId3"/>
          <a:stretch/>
        </p:blipFill>
        <p:spPr>
          <a:xfrm>
            <a:off x="3000240" y="1785960"/>
            <a:ext cx="145764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Развитие речи детей"/>
          <p:cNvPicPr/>
          <p:nvPr/>
        </p:nvPicPr>
        <p:blipFill>
          <a:blip r:embed="rId4"/>
          <a:stretch/>
        </p:blipFill>
        <p:spPr>
          <a:xfrm>
            <a:off x="2050920" y="3716280"/>
            <a:ext cx="1224000" cy="1106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014_064"/>
          <p:cNvPicPr/>
          <p:nvPr/>
        </p:nvPicPr>
        <p:blipFill>
          <a:blip r:embed="rId5"/>
          <a:stretch/>
        </p:blipFill>
        <p:spPr>
          <a:xfrm>
            <a:off x="7093080" y="2637000"/>
            <a:ext cx="1517400" cy="1271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морковь"/>
          <p:cNvPicPr/>
          <p:nvPr/>
        </p:nvPicPr>
        <p:blipFill>
          <a:blip r:embed="rId6"/>
          <a:stretch/>
        </p:blipFill>
        <p:spPr>
          <a:xfrm>
            <a:off x="4932360" y="404640"/>
            <a:ext cx="180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шаблон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2500200" y="157176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 В </a:t>
            </a: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Щ 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3500280" y="157176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643280" y="157176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3143160" y="1143000"/>
            <a:ext cx="3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071720" y="492912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666600"/>
                </a:solidFill>
                <a:latin typeface="Verdana"/>
              </a:rPr>
              <a:t>Овощ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й, </a:t>
            </a:r>
            <a:r>
              <a:rPr b="0" lang="ru-RU" sz="2400" spc="-1" strike="noStrike">
                <a:solidFill>
                  <a:srgbClr val="666600"/>
                </a:solidFill>
                <a:latin typeface="Verdana"/>
              </a:rPr>
              <a:t>овощ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резка, </a:t>
            </a:r>
            <a:r>
              <a:rPr b="0" lang="ru-RU" sz="2400" spc="-1" strike="noStrike">
                <a:solidFill>
                  <a:srgbClr val="666600"/>
                </a:solidFill>
                <a:latin typeface="Verdana"/>
              </a:rPr>
              <a:t>овощ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хранилищ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4" descr="http://qrok.net/uploads/posts/2010-03/thumbs/1268153724_734_large.jpg"/>
          <p:cNvPicPr/>
          <p:nvPr/>
        </p:nvPicPr>
        <p:blipFill>
          <a:blip r:embed="rId2"/>
          <a:stretch/>
        </p:blipFill>
        <p:spPr>
          <a:xfrm>
            <a:off x="2571840" y="2357280"/>
            <a:ext cx="35416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285840" y="285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ьто, 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бу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 с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ка, дев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оч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, м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на, к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ова, ов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щ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24000" y="1341360"/>
            <a:ext cx="94899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На какие вопросы отвечаю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эти слов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Verdana"/>
              </a:rPr>
              <a:t>Почему слова </a:t>
            </a:r>
            <a:r>
              <a:rPr b="1" lang="ru-RU" sz="2800" spc="-1" strike="noStrike">
                <a:solidFill>
                  <a:srgbClr val="6600ff"/>
                </a:solidFill>
                <a:latin typeface="Verdana"/>
              </a:rPr>
              <a:t>пальто</a:t>
            </a:r>
            <a:r>
              <a:rPr b="1" lang="ru-RU" sz="2800" spc="-1" strike="noStrike">
                <a:solidFill>
                  <a:srgbClr val="333333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6600ff"/>
                </a:solidFill>
                <a:latin typeface="Verdana"/>
              </a:rPr>
              <a:t>арбуз</a:t>
            </a:r>
            <a:r>
              <a:rPr b="1" lang="ru-RU" sz="2800" spc="-1" strike="noStrike">
                <a:solidFill>
                  <a:srgbClr val="333333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6600ff"/>
                </a:solidFill>
                <a:latin typeface="Verdana"/>
              </a:rPr>
              <a:t>малина</a:t>
            </a:r>
            <a:r>
              <a:rPr b="1" lang="ru-RU" sz="2800" spc="-1" strike="noStrike">
                <a:solidFill>
                  <a:srgbClr val="333333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Verdana"/>
              </a:rPr>
              <a:t>овощи</a:t>
            </a:r>
            <a:r>
              <a:rPr b="1" lang="ru-RU" sz="2800" spc="-1" strike="noStrike">
                <a:solidFill>
                  <a:srgbClr val="333333"/>
                </a:solidFill>
                <a:latin typeface="Verdana"/>
              </a:rPr>
              <a:t> отвечают на вопрос </a:t>
            </a:r>
            <a:r>
              <a:rPr b="1" lang="ru-RU" sz="3200" spc="-1" strike="noStrike">
                <a:solidFill>
                  <a:srgbClr val="333333"/>
                </a:solidFill>
                <a:latin typeface="Verdana"/>
              </a:rPr>
              <a:t>что?</a:t>
            </a:r>
            <a:r>
              <a:rPr b="1" lang="ru-RU" sz="2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Verdana"/>
              </a:rPr>
              <a:t>А слова </a:t>
            </a:r>
            <a:r>
              <a:rPr b="1" lang="ru-RU" sz="2800" spc="-1" strike="noStrike">
                <a:solidFill>
                  <a:srgbClr val="6600ff"/>
                </a:solidFill>
                <a:latin typeface="Verdana"/>
              </a:rPr>
              <a:t>собака</a:t>
            </a:r>
            <a:r>
              <a:rPr b="1" lang="ru-RU" sz="2800" spc="-1" strike="noStrike">
                <a:solidFill>
                  <a:srgbClr val="333333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6600ff"/>
                </a:solidFill>
                <a:latin typeface="Verdana"/>
              </a:rPr>
              <a:t>девочка</a:t>
            </a:r>
            <a:r>
              <a:rPr b="1" lang="ru-RU" sz="2800" spc="-1" strike="noStrike">
                <a:solidFill>
                  <a:srgbClr val="333333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6600ff"/>
                </a:solidFill>
                <a:latin typeface="Verdana"/>
              </a:rPr>
              <a:t>корова </a:t>
            </a:r>
            <a:r>
              <a:rPr b="1" lang="ru-RU" sz="2800" spc="-1" strike="noStrike">
                <a:solidFill>
                  <a:srgbClr val="333333"/>
                </a:solidFill>
                <a:latin typeface="Verdana"/>
              </a:rPr>
              <a:t>– на вопрос </a:t>
            </a:r>
            <a:r>
              <a:rPr b="1" lang="ru-RU" sz="3200" spc="-1" strike="noStrike">
                <a:solidFill>
                  <a:srgbClr val="333333"/>
                </a:solidFill>
                <a:latin typeface="Verdana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шаблон 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826920" y="260280"/>
            <a:ext cx="44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Кто? 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84360" y="907920"/>
            <a:ext cx="772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Verdana"/>
              </a:rPr>
              <a:t>Одушевлённые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существительные отвечают на вопрос </a:t>
            </a:r>
            <a:r>
              <a:rPr b="1" i="1" lang="ru-RU" sz="2800" spc="-1" strike="noStrike">
                <a:solidFill>
                  <a:srgbClr val="248829"/>
                </a:solidFill>
                <a:latin typeface="Verdana"/>
              </a:rPr>
              <a:t>кто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бозначают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живые существ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55640" y="2565360"/>
            <a:ext cx="72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Verdana"/>
              </a:rPr>
              <a:t>Неодушевлённы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уществительные отвечают на вопрос </a:t>
            </a:r>
            <a:r>
              <a:rPr b="1" i="1" lang="ru-RU" sz="2800" spc="-1" strike="noStrike">
                <a:solidFill>
                  <a:srgbClr val="248829"/>
                </a:solidFill>
                <a:latin typeface="Verdana"/>
              </a:rPr>
              <a:t>что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бозначают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едметы, явления природы, событ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8" descr="http://odin.mobile9.com/download/media/41/winterbird_ua2qrxta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684360" y="98100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Verdana"/>
              </a:rPr>
              <a:t>Был зимний денек.</a:t>
            </a:r>
            <a:br>
              <a:rPr sz="3600"/>
            </a:br>
            <a:r>
              <a:rPr b="1" i="1" lang="ru-RU" sz="36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Verdana"/>
              </a:rPr>
              <a:t>Синичка прыгала по ветка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00040" y="3714840"/>
            <a:ext cx="91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Запишите предлож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Найдите слова-предметы и задайте к ним вопрос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шабл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684360" y="9079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Verdana"/>
              </a:rPr>
              <a:t>Составьте и запишите предлож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84360" y="1773360"/>
            <a:ext cx="734364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Verdana"/>
              </a:rPr>
              <a:t>кот, сада, из, выше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Verdana"/>
              </a:rPr>
              <a:t>И</a:t>
            </a:r>
            <a:r>
              <a:rPr b="1" i="1" lang="ru-RU" sz="3200" spc="-1" strike="noStrike">
                <a:solidFill>
                  <a:srgbClr val="ff0066"/>
                </a:solidFill>
                <a:latin typeface="Verdana"/>
              </a:rPr>
              <a:t>з</a:t>
            </a:r>
            <a:r>
              <a:rPr b="1" i="1" lang="ru-RU" sz="3200" spc="-1" strike="noStrike">
                <a:solidFill>
                  <a:srgbClr val="333333"/>
                </a:solidFill>
                <a:latin typeface="Verdana"/>
              </a:rPr>
              <a:t> сада вышел ко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755640" y="3716280"/>
            <a:ext cx="8388360" cy="26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Verdana"/>
              </a:rPr>
              <a:t>дети, дворе, играли, 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Verdana"/>
              </a:rPr>
              <a:t>В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333333"/>
                </a:solidFill>
                <a:latin typeface="Verdana"/>
              </a:rPr>
              <a:t> дв</a:t>
            </a: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333333"/>
                </a:solidFill>
                <a:latin typeface="Verdana"/>
              </a:rPr>
              <a:t>ре играли де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800"/>
                </a:solidFill>
                <a:latin typeface="Verdana"/>
              </a:rPr>
              <a:t>Найдите одушевлённые и неодушевлённые слова –предме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4:27:12Z</dcterms:created>
  <dc:creator>firm</dc:creator>
  <dc:description/>
  <dc:language>en-US</dc:language>
  <cp:lastModifiedBy>Nabster</cp:lastModifiedBy>
  <dcterms:modified xsi:type="dcterms:W3CDTF">2014-03-16T17:42:19Z</dcterms:modified>
  <cp:revision>23</cp:revision>
  <dc:subject/>
  <dc:title>Слайд 1</dc:title>
</cp:coreProperties>
</file>